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E029-BC0C-4E76-9CAE-F048AD957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FE82-1C35-42D0-BC41-D8BCBD700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7C2A-20D5-4B45-A025-5C885C928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16E4-B749-420E-9847-101D97B3D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BD80D-4F6E-4E54-9A4C-85E433CC60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D63F5-F5AA-46F1-96EF-8BBE44338D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9A9D4-0D1C-4F59-83F8-2424744A5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8C576-ACFF-4326-8F00-DFDB9B94D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58927-1BA0-4CD1-ADBF-22CA86D3A1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D2F7C-37A7-4D41-96AA-BE9F19C7E4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0C507-70B7-4EF7-BA7C-B73BAEF4B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96C8-C42A-4D22-98FF-F27B22BDE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5D896-B6EB-4C66-82CB-13694D270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3D507-BF64-4D92-94A4-D38CCA14E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D3ECD-875D-49D0-8FB2-58695963E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72681-AF89-4361-9E17-A4C5F49DB8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97BD-A260-4AB1-AAE9-181C170B23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0D1E-F7FE-421F-BDA6-84E646427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2742-254B-44A0-9A66-16F1928D3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958E-B73B-46C3-A3EC-D01640502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67CC-A4E1-48A6-BAF7-94BC8966D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247D-0FF6-4968-94E3-DAE8A0F6C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96FE-2134-43A4-81EF-848CAC90E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CA6B-BA77-4BD8-A9EE-327294A8E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E1E6C08-0352-4ECA-8B21-C9B91EFFA96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485778D-751D-4522-A345-B3A154CFA7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F665C67-B12B-4DB2-82F6-5E1F27A697D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471A32-430B-4499-9FC9-8B9C4FC023E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1-12-01T14:57:15Z</dcterms:modified>
  <cp:revision>213</cp:revision>
  <dc:subject/>
  <dc:title>8: SAMPLE SIZE DETERMINATION</dc:title>
</cp:coreProperties>
</file>